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5E1-EC88-4534-B714-5F3AF8BB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287-C5BB-4D41-8BB3-17B9DF8C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5CE-E18B-4635-88BB-3C7F449C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042-687F-4408-9AF5-920E1D18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D20-58F7-46A8-B8BC-AAE6F6CF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677-93F5-4D40-B6A4-1B33E265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3A5-81EA-4200-BF21-71C50335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0107-DFDC-48F7-8C50-6B8DC7E4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5D5-05E4-4796-BE72-7624A3B8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C47-649F-49B6-B2DF-9CB4394F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B24-6414-41BA-A2BB-DD710AEC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689-9FD7-4AAF-AB5C-C92F499C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760B-C931-4572-A46B-24DE5125D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евентивномедицинска заштита у ванредним ситуациј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иолошко оружје и способности ширења зараз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19890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о контагиозне боле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луенца, плућни антракс и куга, варио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о контагиозне боле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бушни тифус, бациларна дизентер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нтагиозне боле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бовирусне инфекције, денга, бруцелоза, малар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иолошко оружје и дужина инкубационог пери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1752480"/>
          <a:ext cx="8075520" cy="4525920"/>
        </p:xfrm>
        <a:graphic>
          <a:graphicData uri="http://schemas.openxmlformats.org/drawingml/2006/table">
            <a:tbl>
              <a:tblPr/>
              <a:tblGrid>
                <a:gridCol w="3960720"/>
                <a:gridCol w="411480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шки агенси са брзим дејством (оболевање у току 24 часа од примен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тулотоксин, стафилококни токсин, микотокси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шки агенси са успореним дејством (оболевање након 2-7дан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га, антракс, колера, туларемија, ден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шки агенси са брзим дејством (оболевање након 7дана од примен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бушни и пегави тифус, бруцелоза,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оз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иолошки агенси и дужина преживљавања у спољној сред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184464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тпорни (1-3 сата у ваздуху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 инфлуен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лативно отпорни (до 24 сат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ци колере, арбовироза,, туларемије, бруцелоз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ома отпорни (више дана,недеља, годин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ци антракса, куге,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озни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ачини примене биолошког оруж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а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лодари, муве, други биолошки век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штита од биолошког нап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куп мера од којих се већина користи у превенцији и сузбијању заразних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лност - спровођење мера постекспозицио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ајважније мере у борби против биолошког оруж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познавање биолошког напада и постављање клиничко-епидемиолошке дијагн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текција и идентификација биолошког аген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брињавање експонираних- оболелих и здрав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олошка деконтамин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познавање биолошког напада и постављање клиничко-епидемиолошке дијагн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пидемиолошко испитивање са циљем прикупљања релевантних података који ће помоћи у детекцији биолошког нап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арактеристике епидемије које указују на употребу биолошког оруж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гла и неочекивана појава великог броја оболелих, независна од претходне епидемиолошке ситу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сока учесталост оболевања и/или умирања у кратком временском пери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овремена инфекција оболелих са два или више узроч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арактеристике епидемије које указују на употребу биолошког оруж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уобичајена географска појава неке заразне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јава сезовских обољења у време када се она обично не регистру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уобичајени пут преноса, манифестације 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оболевања и угинуће ст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и о контаминацији ваздуха, воде, х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рганизација и спровођење превентивномедицинске заштите од елементарних несрећа и катастроф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2331720"/>
            <a:ext cx="82296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за припр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за интерв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анредна ситу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ненадна и неочекивана појава непогоде која може да угрози здравље и живот људи и да проузрокује материјалну штету већег об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евенција и сузбијање заразних болести на угроженом подруч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јачан санитарни над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јачан епидемиолошки над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ре санитарног недзора н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одоснабдевањ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хра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тклањањемотпадних ма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ештајем љ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оштрен епидемиолошки надз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д цревним и респираторним боле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одневно извештавање о кретању заразних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оводити оне мере за које постоје индик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совна вакцинациј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асовна вакцинација није оправдана из више раз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лимична заштита против само једног 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ећај лажне сигурности код становништва, не предузимају се друге значајније м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нгажује се здравствено особље потребно за важније зада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Ванредна ситуација</a:t>
            </a:r>
            <a:r>
              <a:rPr b="0" lang="sr-CS" sz="4400" spc="-1" strike="noStrike">
                <a:solidFill>
                  <a:srgbClr val="009999"/>
                </a:solidFill>
                <a:latin typeface="Arial"/>
              </a:rPr>
              <a:t> (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sr-CS" sz="4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пидемиолошком смислу, представљ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тање када на одређеном простор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зненада и за кратко време, дође д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такве угрожености здравља или жив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људи, чије се последице не мог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тклонити у пожељно време и 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стојећом организацијом здравстве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лу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9999"/>
                </a:solidFill>
                <a:latin typeface="Arial"/>
              </a:rPr>
              <a:t>могу настати у случај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РОДНИХ катастроф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ица наглих климатских проме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бог глобалног загревања план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ОВЕКОВЕ активности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ер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енамерне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ључујући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рористич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а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2" descr="poplave6"/>
          <p:cNvPicPr/>
          <p:nvPr/>
        </p:nvPicPr>
        <p:blipFill>
          <a:blip r:embed="rId1"/>
          <a:stretch/>
        </p:blipFill>
        <p:spPr>
          <a:xfrm>
            <a:off x="8001000" y="21207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2"/>
          <a:stretch/>
        </p:blipFill>
        <p:spPr>
          <a:xfrm>
            <a:off x="6951600" y="3467160"/>
            <a:ext cx="1047960" cy="79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8229600" y="403200"/>
            <a:ext cx="914400" cy="88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pozari2"/>
          <p:cNvPicPr/>
          <p:nvPr/>
        </p:nvPicPr>
        <p:blipFill>
          <a:blip r:embed="rId4"/>
          <a:stretch/>
        </p:blipFill>
        <p:spPr>
          <a:xfrm>
            <a:off x="8191440" y="35053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5"/>
          <a:stretch/>
        </p:blipFill>
        <p:spPr>
          <a:xfrm>
            <a:off x="7858080" y="4575240"/>
            <a:ext cx="1285920" cy="914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С као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9999"/>
                </a:solidFill>
                <a:latin typeface="Arial"/>
              </a:rPr>
              <a:t>последица ПРИРОДН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9999"/>
                </a:solidFill>
                <a:latin typeface="Arial"/>
              </a:rPr>
              <a:t>КАТАСТРОФ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љотреси и појава цунам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ирање вулка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надо, оркан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лаве, одрони, клизиш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стремне врућине и хладноћа, снежне мећаве и лавин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ша, пожари, удари грома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1" descr="nesreca"/>
          <p:cNvPicPr/>
          <p:nvPr/>
        </p:nvPicPr>
        <p:blipFill>
          <a:blip r:embed="rId1"/>
          <a:stretch/>
        </p:blipFill>
        <p:spPr>
          <a:xfrm>
            <a:off x="5495760" y="4235400"/>
            <a:ext cx="234324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poyari3"/>
          <p:cNvPicPr/>
          <p:nvPr/>
        </p:nvPicPr>
        <p:blipFill>
          <a:blip r:embed="rId2"/>
          <a:stretch/>
        </p:blipFill>
        <p:spPr>
          <a:xfrm>
            <a:off x="7934400" y="274680"/>
            <a:ext cx="120960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"/>
          <p:cNvPicPr/>
          <p:nvPr/>
        </p:nvPicPr>
        <p:blipFill>
          <a:blip r:embed="rId3"/>
          <a:stretch/>
        </p:blipFill>
        <p:spPr>
          <a:xfrm>
            <a:off x="5597640" y="1928880"/>
            <a:ext cx="2139840" cy="1531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С као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9999"/>
                </a:solidFill>
                <a:latin typeface="Arial"/>
              </a:rPr>
              <a:t>последица ЧОВЕКОВ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9999"/>
                </a:solidFill>
                <a:latin typeface="Arial"/>
              </a:rPr>
              <a:t>активно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олошки акциден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епидемије, биотерориза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емијски акциден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клеарни акциден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обраћајне   несреће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naf mrlja3"/>
          <p:cNvPicPr/>
          <p:nvPr/>
        </p:nvPicPr>
        <p:blipFill>
          <a:blip r:embed="rId4"/>
          <a:stretch/>
        </p:blipFill>
        <p:spPr>
          <a:xfrm>
            <a:off x="6934320" y="3048120"/>
            <a:ext cx="1981080" cy="1562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"/>
          <p:cNvPicPr/>
          <p:nvPr/>
        </p:nvPicPr>
        <p:blipFill>
          <a:blip r:embed="rId5"/>
          <a:stretch/>
        </p:blipFill>
        <p:spPr>
          <a:xfrm>
            <a:off x="7648560" y="4470480"/>
            <a:ext cx="1495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Основне карактеристике вс су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гађају велики број љ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зазивају велика оштећењ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стоји потреба за помоћ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ајчешће говори о масовним несрећа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ли катастроф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Масовне несрећ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 разликуј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зроку настан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љотрес, поплава, експлозивне материј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пидемије, ратна катастроф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странству које захватај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жа или шира територија или 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сред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рожавају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нзитет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бим материјалног разарања и број жрта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анредни догађаји према узро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родне, елементарне не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погоде које су последица људске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4" descr="hladnoca"/>
          <p:cNvPicPr/>
          <p:nvPr/>
        </p:nvPicPr>
        <p:blipFill>
          <a:blip r:embed="rId1"/>
          <a:stretch/>
        </p:blipFill>
        <p:spPr>
          <a:xfrm>
            <a:off x="947880" y="1600200"/>
            <a:ext cx="3057480" cy="2187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Последице ванредних ситуациј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кид рада критичних инфра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роженост живог све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изик по здравље великог броја људи, опстанак животињ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љног омотача, тј. хране животињског и биљног порекл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"/>
          <p:cNvPicPr/>
          <p:nvPr/>
        </p:nvPicPr>
        <p:blipFill>
          <a:blip r:embed="rId2"/>
          <a:stretch/>
        </p:blipFill>
        <p:spPr>
          <a:xfrm>
            <a:off x="3890880" y="269388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hem udes2"/>
          <p:cNvPicPr/>
          <p:nvPr/>
        </p:nvPicPr>
        <p:blipFill>
          <a:blip r:embed="rId3"/>
          <a:stretch/>
        </p:blipFill>
        <p:spPr>
          <a:xfrm>
            <a:off x="5477040" y="1798560"/>
            <a:ext cx="23810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сле катастрофалног догађаја долаз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о нагле и драстичне </a:t>
            </a: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проме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жив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себан значај имај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горшање </a:t>
            </a: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услова станов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ремећено </a:t>
            </a: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снабдевање водо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иће и </a:t>
            </a: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животним намирница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горшање </a:t>
            </a: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санитарних прили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физичка и психичка </a:t>
            </a: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исцрпљенос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рмалне 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активности у праћењу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сузбијању заразних боле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ома отежане што додатно отежава и онак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горшану епидемиолошк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туацију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мење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лови живота веома погодују настанку и ширењ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разних болести, важно ј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нтензивира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пидемиолошко извиђањ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матрање тере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олико 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ребно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пидемиолошк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спитивањ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Заштита здравља у вс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тављ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дужетак свих облика заштите здравља који с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мењују у свакодневном раду. Непосредно нако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тастрофе предузимају се најпре тз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ургентне мере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вакуација и смештај угроженог становништв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езбеђење хигијенски исправне воде за пиће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хран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налажење и сахрањивање умрлих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орба против психичких поремећај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овремено, стално и правилно информисањ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новниш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После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их ургентних мера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спрово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правка оштећених стамбени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јека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нација водних објеката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нализациј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нитација уже окол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свим вс формирају се посебни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штабови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ј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ковод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ординирај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меравају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локупан рад на отклањању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носно умањивању последица катастроф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висно од природа несреће 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у саставу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таба налазе се различити профили стручњак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ли је увек поред представника друштвен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једнице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обавезно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сутан и лекар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специјалиста</a:t>
            </a:r>
            <a:r>
              <a:rPr b="0" lang="ru-RU" sz="2600" spc="-1" strike="noStrike">
                <a:solidFill>
                  <a:srgbClr val="009999"/>
                </a:solidFill>
                <a:latin typeface="Arial"/>
              </a:rPr>
              <a:t> епидемиологије и хигијене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0" lang="sr-Latn-CS" sz="5400" spc="-1" strike="noStrike">
                <a:solidFill>
                  <a:srgbClr val="009999"/>
                </a:solidFill>
                <a:latin typeface="Arial"/>
              </a:rPr>
              <a:t>Организација</a:t>
            </a:r>
            <a:r>
              <a:rPr b="0" lang="sr-CS" sz="5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sr-CS" sz="5400" spc="-1" strike="noStrike">
                <a:solidFill>
                  <a:srgbClr val="009999"/>
                </a:solidFill>
                <a:latin typeface="Arial"/>
              </a:rPr>
              <a:t>п</a:t>
            </a:r>
            <a:r>
              <a:rPr b="0" lang="sr-Latn-CS" sz="5400" spc="-1" strike="noStrike">
                <a:solidFill>
                  <a:srgbClr val="009999"/>
                </a:solidFill>
                <a:latin typeface="Arial"/>
              </a:rPr>
              <a:t>ревенциј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sr-CS" sz="5400" spc="-1" strike="noStrike">
                <a:solidFill>
                  <a:srgbClr val="009999"/>
                </a:solidFill>
                <a:latin typeface="Arial"/>
              </a:rPr>
              <a:t>ц</a:t>
            </a:r>
            <a:r>
              <a:rPr b="0" lang="sr-Latn-CS" sz="5400" spc="-1" strike="noStrike">
                <a:solidFill>
                  <a:srgbClr val="009999"/>
                </a:solidFill>
                <a:latin typeface="Arial"/>
              </a:rPr>
              <a:t>ревних инфекциј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Епидемиолошка ситуација - </a:t>
            </a:r>
            <a:r>
              <a:rPr b="0" lang="sr-CS" sz="3200" spc="-1" strike="noStrike">
                <a:solidFill>
                  <a:srgbClr val="009999"/>
                </a:solidFill>
                <a:latin typeface="Arial"/>
              </a:rPr>
              <a:t>земљот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љотрес који је погодио Црну Го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чито њен приобални део, проузрокова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је непроцењиву шт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одручју Херцег Новог, Котора, Будв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а и Улциња погинуло је 96, а теже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кше повређено преко 1000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високом % је уништен, порушен или поста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употребљив стамбени фонд овог подруч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адали су привредни објекти, хотели, а јако с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штећени и здравствени објек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ништени су путеви, као и део железничке пруг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штећени су градски водоводи, извори који с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ојали пресушили су, док је вода избијал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мо где је никада раније није би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кидана је електрична мреж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68360" y="260280"/>
          <a:ext cx="8229600" cy="587844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138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ма подацима који се односе на обавезну пријаву цревних зараз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ест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претходној календарској години у Црној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истроване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едеће заразне болест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с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рој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лел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/10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patitis viro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enteria-Enterocoliti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xiinfectio alimentari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hus abdominalis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typhus A,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omyeliti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епогоде према интензите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кална елементарна непогода мањих раз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погоде већих раз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лементарне несрећ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лементарне катастроф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ји проблеми у новонасталој ситуацији чине д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оји реална опасност од појаве и ширењ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ревних заразних болести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штећени градски водоводи, извори пресушил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бија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где је никада раније није би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ништен, порушен или постао неупотребљи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мбени фонд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кидана електрична мреж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адали здравствени објекти, привредн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отели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ништени путеви, део железничке пруге 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ји начин оштећење и неупотребљивос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ликог броја стамбених зграда може утицати 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јаву и ширење цревних инфекциј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ржавање чистоће тела, одеће .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езбеђивање услова да се животне намерниц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штите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ји начин престанак рада водовода мож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принети појави и ширењу цревних инфекциј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На који начин оштећење и неупотребљивост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канализационе мреже  може допринети појави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ширењу цревних инфекциј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ји начин отежано снабдевање уз тешкоће 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преми намирница (непроходни путев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штећење електричне мреже, срушени објек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набдевања, ресторани итд.) утиче на појаву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рење цревних инфекциј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ји начин је новонасталом ситуациј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гођена здравствена заштита становништв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роженог подручја, нарочито у смисл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венције цревних инфекциј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На који начин прекид нормалног функционисањ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комуналних служби може допринети појави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ширењу цревних инфекциј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је цревне болести се могу превенира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акцинацијом у оваквим приликам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ји начин је новонасталом ситуациј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гођена здравствена заштита становништв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роженог подручја, нарочито у смисл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венције цревних инфекциј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На који начин прекид нормалног функционисањ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комуналних служби може допринети појави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ширењу цревних инфекциј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је цревне болести се могу превенира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акцинацијом у оваквим приликам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колико би вакцинацијом против трбушног тифус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гао да се смањи ризик од појаве болести, кога б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л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требно вакциниса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роженом подручју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ца запослена на чишћењу канализациј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птичких јама, уклањању смећа и остали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падних материја из насељ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ца која живе у заједничком домаћинству с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ицоношом трбушног тифу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ца према епидемиолошким индикација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ја лица, према епидемиолошким индикацијам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лежу вакцинацији против трбушног тифус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ца која су услед природе посла или посебни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лова рада на својим радним местима изложе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асности од зара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ји начин се апликује вакцина против трбушног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ифус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вањем две дозе вакцине у размаку који не см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ити краћи од 15 дана ни дужи од три месе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личину дозе одређује произвођач вакц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акцина се апликује дубоко поткожно на задњој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ани надлактиц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ва ревакцинација годину дана после, а даљ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аке три год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ште санитарно-хигијенске мер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езбеђивање хигијенски исправне хране и вод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 пић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игијенска диспозиција отпадних мате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езбеђење водотока од загађива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ржавање личне хигијене (прање руку) ит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лни надзор над клицоноша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акцинопрофилакс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пидемија заразне болести поприма размере елементарне несреће, катастрофе уколико се ради о епидем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шког заразног обољења са високим леталит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у карактерише масовност и експлоз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ије су економске и друштвене последице вел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у здравствена служба није  у стању да сузбије, постоји опасност од њеног ширења, чак и ван граница земљ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важније карактеристике патогеног микроорганизма или његовог продукта (токс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ојано изазивање жељеног еф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сока контагио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ојање више начина и путева заража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ла инфективна д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лативно кратак инкубациони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важније карактеристике патогеног микроорганизма или његовог продукта (токс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ака и једноставна производ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абилност приликом производње, лагеровања и при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тежана детекција и идентифик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гућност заштите сопственог љу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рсте биолошких агена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00000" y="1397160"/>
          <a:ext cx="7488360" cy="478620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ље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тер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illus anthracis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р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bricele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уцелоз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Yersinia pestis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г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Vibrio cholerae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ер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Francisella tularensis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ларемиј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Burkholderia mallei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ус-сакагиј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Salmonella typhi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бушни тифу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Shigella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циларна дизентериј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 вариоле(велике богиње-вариола вера, вируси хеморагијских грозница(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ola, Marburg,Lassa, denga, Hantaan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вируси енцефалитиса, хепатитиса, жуте грозн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кец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iella burnetii(Q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озниц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Rickettsia prowazeki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гави тифу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ци рикецијалних боги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оз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змодијуми(малариј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љив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cidioides immitis, Histoplasma capsulat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ни, продукти микроорганиза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тулотоксин, стафилококни ентеротоксин, афлатокс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Очекивани ефекат биолошког оружја на љу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68360" y="1989000"/>
          <a:ext cx="8229600" cy="4052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и са леталним дејством, агенси који узрокују смртност преко 25% обилел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ућни антракс, плућна куга, хеморагичне грозни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и за онеспособљавање, они који изазивају масовно обољење али са ниским леталитетом-1-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лмонелозе, колера, бациларна дизентер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и за узнемиравање, узрокују лакшу клиничку слику, обољење кратко тра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овање стафилококним ентеротоксин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6:00:07Z</dcterms:created>
  <dc:creator> </dc:creator>
  <dc:description/>
  <dc:language>en-US</dc:language>
  <cp:lastModifiedBy> </cp:lastModifiedBy>
  <dcterms:modified xsi:type="dcterms:W3CDTF">2016-12-29T12:43:05Z</dcterms:modified>
  <cp:revision>22</cp:revision>
  <dc:subject/>
  <dc:title>Slide 1</dc:title>
</cp:coreProperties>
</file>